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11.gif" ContentType="image/gi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086DE2-A983-455B-8F99-BAB643E37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705B803-3CC8-4930-8241-29DB15EEC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4DF51E-E5CE-485F-B58E-336E08856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424B13-FF70-4D74-BB1D-4162D26DD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3FF538-C3AA-45DF-BAEF-7C2BEDBE8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3A230A-FAB8-4CBC-AEB8-70F2A37A6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93B308-D479-49A1-97E6-01AABA985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F1025E-DF19-447E-95DD-8EFF9FB13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F981F2-62AE-4075-8F91-C33332ECE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Note:  Have the students identify the different parts of the screens for the different software pack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BC3B88-0FAF-442B-B6BA-C34760902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EEE6DA-23BB-4539-9F36-203C1156D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B9B9DB-BE85-478E-AB9D-3533A8F26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6F216E-9C4F-44B7-B5C1-BC67A494D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F3D093-8146-41DC-BEEF-A26C72656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17FABB-BBCF-4766-A891-5D6E6EA67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140AAF-1F35-4F70-A63C-60A46DDE9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6AE12E-EB39-4951-9DBC-4C717CFE2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D25928-09FA-48BA-8583-D850BC3D0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opyright laws protect the right of intellectual property and access to possible monetary rewards for owners, which should encourage crea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Fair use situations apply to use in news reporting, parody, research, and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Public domain material do not have a copyright for the possible following reasons: no copyright issued, copyright expired, or it was not rene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heck out website http://www.ccsj.edu/blackboard/BB%20Copyright_Fair_Use.pdf for more information on copyright laws and multime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560847-C35A-4D0A-A814-B5DF6251E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9A9BE1-912E-4D08-9831-EDB2F2184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00C64F-240B-40F2-AAD8-04896E0A4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140F4D-EE7F-4AF0-8063-DB4565722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F9C38B-6987-4E24-9973-1E782705C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flash interface:  http://iit.bloomu.edu/vthc/flash/mainlayou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flash timeline:  http://iit.bloomu.edu/vthc/flash/Timelin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63CC2F-00B6-4EB5-A9FC-C4EF49A97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55318D-F603-4084-A824-052140CD5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32D17F-879B-47A4-8CD3-A95861862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841FFB-9482-4940-8031-5D76104F0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97700-C74F-482B-82AD-3E10DDAC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60FE1-6044-4CAB-80A9-E5CA0D03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0F376-5E0C-4527-93F3-039878AA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35CDA-7D2B-4CF2-9611-2B1EA634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9A00-8BC4-4F12-8BF7-55B2696A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A9E4-FB9B-4831-AF00-4A9CEF83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156E-7679-4E1E-BFC4-2FEAFB70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557E-3C7D-4A24-9462-D3195BB6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D321-07A2-46FB-A3CD-94FAA1BB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C328-0BDE-45E0-89C0-9FC426F6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1720-D8C2-4D36-AFE8-F0D72657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E0D89-BDEE-4745-82A2-CDE31262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81E1-48C3-44D1-86A9-21997F7C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5870-5451-4EBC-B805-29393E60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1928-76AB-4571-BD7A-54BE0396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B084-49AE-4CF8-9238-2083A2BB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45C7-40BB-4C98-867A-F3D6664F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76D12-3D79-483E-A5BD-AD78B326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F51F1-E7D3-4AB8-AA3D-33BCD73B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B8630-167B-4332-B36E-71342796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01ECB-325C-4759-AAE9-5409231C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3325-731E-4620-B8C7-238525E3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DABE5-CCE4-4ABB-85DD-90768573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7BEB9-E6F9-4016-8796-1F499041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B10B-06E1-45CF-AD9F-80D2FA237D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3716-1F45-4BCC-B9D9-EF4B166625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520" y="1980720"/>
            <a:ext cx="63244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02D Computer Animation Software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d Design Guidelines</a:t>
            </a: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743200" y="5333760"/>
            <a:ext cx="60199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2 Develop Computer Ani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layhead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434340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red marker in the timeline that shows which frame is the current 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533520" y="1752480"/>
            <a:ext cx="8001000" cy="2133720"/>
            <a:chOff x="533520" y="1752480"/>
            <a:chExt cx="8001000" cy="2133720"/>
          </a:xfrm>
        </p:grpSpPr>
        <p:pic>
          <p:nvPicPr>
            <p:cNvPr id="154" name="Picture 3" descr=""/>
            <p:cNvPicPr/>
            <p:nvPr/>
          </p:nvPicPr>
          <p:blipFill>
            <a:blip r:embed="rId1"/>
            <a:srcRect l="25925" t="24539" r="37037" b="61658"/>
            <a:stretch/>
          </p:blipFill>
          <p:spPr>
            <a:xfrm>
              <a:off x="533520" y="1752480"/>
              <a:ext cx="80010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Line 5"/>
            <p:cNvSpPr/>
            <p:nvPr/>
          </p:nvSpPr>
          <p:spPr>
            <a:xfrm flipH="1" flipV="1">
              <a:off x="4572000" y="2438280"/>
              <a:ext cx="83808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Scrubbing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gging the playhead across the timeline in order to preview the ani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rcRect l="25925" t="24539" r="37037" b="61658"/>
          <a:stretch/>
        </p:blipFill>
        <p:spPr>
          <a:xfrm>
            <a:off x="228600" y="3276720"/>
            <a:ext cx="853452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Frames Per Second (FPS)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frames that appear in one second of the ani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457200" y="3200400"/>
            <a:ext cx="8381880" cy="2666880"/>
            <a:chOff x="457200" y="3200400"/>
            <a:chExt cx="8381880" cy="2666880"/>
          </a:xfrm>
        </p:grpSpPr>
        <p:pic>
          <p:nvPicPr>
            <p:cNvPr id="162" name="Picture 4" descr=""/>
            <p:cNvPicPr/>
            <p:nvPr/>
          </p:nvPicPr>
          <p:blipFill>
            <a:blip r:embed="rId1"/>
            <a:srcRect l="7032" t="10420" r="22659" b="69794"/>
            <a:stretch/>
          </p:blipFill>
          <p:spPr>
            <a:xfrm>
              <a:off x="457200" y="3200400"/>
              <a:ext cx="83818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Oval 5"/>
            <p:cNvSpPr/>
            <p:nvPr/>
          </p:nvSpPr>
          <p:spPr>
            <a:xfrm>
              <a:off x="3886200" y="5181480"/>
              <a:ext cx="114300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rcRect l="39733" t="30293" r="37037" b="61658"/>
          <a:stretch/>
        </p:blipFill>
        <p:spPr>
          <a:xfrm>
            <a:off x="1219320" y="4572000"/>
            <a:ext cx="7467480" cy="16668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animation program creates movies at 12 fps (frames per second) by default, inserting a keyframe and change once every 12 frames results in a change in action for every secon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ject with 60 frames results in a 5-second mov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80880" y="83808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Frames Per Second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(continued)</a:t>
            </a: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4343400" y="5105520"/>
            <a:ext cx="2286000" cy="761760"/>
          </a:xfrm>
          <a:prstGeom prst="ellipse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Layers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9920" indent="-25992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ine is divided int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help organize content and allow the different layers to be edited sepa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5992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would be on a separate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5992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would be on a separate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5992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tion path would be on a separate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4"/>
          <p:cNvGrpSpPr/>
          <p:nvPr/>
        </p:nvGrpSpPr>
        <p:grpSpPr>
          <a:xfrm>
            <a:off x="533520" y="4495680"/>
            <a:ext cx="8001000" cy="1771920"/>
            <a:chOff x="533520" y="4495680"/>
            <a:chExt cx="8001000" cy="1771920"/>
          </a:xfrm>
        </p:grpSpPr>
        <p:sp>
          <p:nvSpPr>
            <p:cNvPr id="171" name="Text Box 7"/>
            <p:cNvSpPr/>
            <p:nvPr/>
          </p:nvSpPr>
          <p:spPr>
            <a:xfrm>
              <a:off x="533520" y="480060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aye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8"/>
            <p:cNvSpPr/>
            <p:nvPr/>
          </p:nvSpPr>
          <p:spPr>
            <a:xfrm>
              <a:off x="533520" y="5334120"/>
              <a:ext cx="1600200" cy="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13" descr="Synfig"/>
            <p:cNvPicPr/>
            <p:nvPr/>
          </p:nvPicPr>
          <p:blipFill>
            <a:blip r:embed="rId1">
              <a:lum bright="-6000"/>
            </a:blip>
            <a:srcRect l="0" t="81253" r="55334" b="0"/>
            <a:stretch/>
          </p:blipFill>
          <p:spPr>
            <a:xfrm>
              <a:off x="2438280" y="4495680"/>
              <a:ext cx="6096240" cy="17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Rectangle 6"/>
            <p:cNvSpPr/>
            <p:nvPr/>
          </p:nvSpPr>
          <p:spPr>
            <a:xfrm>
              <a:off x="2286000" y="4495680"/>
              <a:ext cx="2514600" cy="1676520"/>
            </a:xfrm>
            <a:prstGeom prst="rect">
              <a:avLst/>
            </a:prstGeom>
            <a:noFill/>
            <a:ln w="127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Motion Guide Layer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609480" y="152388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62120" y="1219320"/>
            <a:ext cx="82105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on which a motion path is dra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on different layers can be linked to the motion layer so they will follow the motion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linked, they become “guided lay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bjects can be linked to one motion lay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layers can also be linked to a motion lay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0"/>
          <p:cNvGrpSpPr/>
          <p:nvPr/>
        </p:nvGrpSpPr>
        <p:grpSpPr>
          <a:xfrm>
            <a:off x="1447920" y="4724280"/>
            <a:ext cx="6933960" cy="1828800"/>
            <a:chOff x="1447920" y="4724280"/>
            <a:chExt cx="6933960" cy="1828800"/>
          </a:xfrm>
        </p:grpSpPr>
        <p:pic>
          <p:nvPicPr>
            <p:cNvPr id="180" name="Picture 4" descr=""/>
            <p:cNvPicPr/>
            <p:nvPr/>
          </p:nvPicPr>
          <p:blipFill>
            <a:blip r:embed="rId1"/>
            <a:srcRect l="25200" t="40709" r="55654" b="47300"/>
            <a:stretch/>
          </p:blipFill>
          <p:spPr>
            <a:xfrm>
              <a:off x="1447920" y="4724280"/>
              <a:ext cx="26668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8"/>
            <p:cNvSpPr/>
            <p:nvPr/>
          </p:nvSpPr>
          <p:spPr>
            <a:xfrm>
              <a:off x="4648320" y="5486400"/>
              <a:ext cx="373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otion Guide Lay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4191120" y="6019920"/>
              <a:ext cx="1600200" cy="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Screenshots from Different Animation Software Packages</a:t>
            </a:r>
            <a:endParaRPr b="0" lang="en-US" sz="46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Flash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85" name="Picture 6" descr="Flash_CS4_Workspace"/>
          <p:cNvPicPr/>
          <p:nvPr/>
        </p:nvPicPr>
        <p:blipFill>
          <a:blip r:embed="rId1"/>
          <a:stretch/>
        </p:blipFill>
        <p:spPr>
          <a:xfrm>
            <a:off x="1219320" y="1523880"/>
            <a:ext cx="7315200" cy="44038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380880" y="60958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age has been used with permission from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glennward.co.uk/2009/09/1-1-introduction-to-adobe-flash-the-workspace-and-t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Synfig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88" name="Picture 5" descr="Synfi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914400" y="1371600"/>
            <a:ext cx="7048440" cy="4876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914400" y="640080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created by Ricardo Graça and used with permission from:  www.ricolandia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Arial"/>
              </a:rPr>
              <a:t>Autodesk 3ds Max</a:t>
            </a: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28600" y="640008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age used with permission from:  http://www.softpedia.com/progScreenshots/3D-Studio-Max-Screenshot-15976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3D-Studio-Max_1"/>
          <p:cNvPicPr/>
          <p:nvPr/>
        </p:nvPicPr>
        <p:blipFill>
          <a:blip r:embed="rId1"/>
          <a:stretch/>
        </p:blipFill>
        <p:spPr>
          <a:xfrm>
            <a:off x="1981080" y="1295280"/>
            <a:ext cx="640080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ommon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Terms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n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Animation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Software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4647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Designing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me-by-Frame Computer Animations</a:t>
            </a: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Guidelines For Designing Frame-by-Frame Computer Animations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keyframes at each change in th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00007d"/>
              </a:buClr>
              <a:buFont typeface="Wingdings" charset="2"/>
              <a:buChar char="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on keyframes can be chang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99960">
              <a:lnSpc>
                <a:spcPct val="90000"/>
              </a:lnSpc>
              <a:spcBef>
                <a:spcPts val="649"/>
              </a:spcBef>
              <a:spcAft>
                <a:spcPts val="488"/>
              </a:spcAft>
              <a:buClr>
                <a:srgbClr val="9999cc"/>
              </a:buClr>
              <a:buFont typeface="Wingdings" charset="2"/>
              <a:buChar char=""/>
              <a:tabLst>
                <a:tab algn="l" pos="457200"/>
                <a:tab algn="l" pos="85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ing and deleting object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99960">
              <a:lnSpc>
                <a:spcPct val="90000"/>
              </a:lnSpc>
              <a:spcBef>
                <a:spcPts val="649"/>
              </a:spcBef>
              <a:spcAft>
                <a:spcPts val="488"/>
              </a:spcAft>
              <a:buClr>
                <a:srgbClr val="9999cc"/>
              </a:buClr>
              <a:buFont typeface="Wingdings" charset="2"/>
              <a:buChar char=""/>
              <a:tabLst>
                <a:tab algn="l" pos="457200"/>
                <a:tab algn="l" pos="85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lacing one object with anoth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99960">
              <a:lnSpc>
                <a:spcPct val="90000"/>
              </a:lnSpc>
              <a:spcBef>
                <a:spcPts val="649"/>
              </a:spcBef>
              <a:spcAft>
                <a:spcPts val="488"/>
              </a:spcAft>
              <a:buClr>
                <a:srgbClr val="9999cc"/>
              </a:buClr>
              <a:buFont typeface="Wingdings" charset="2"/>
              <a:buChar char=""/>
              <a:tabLst>
                <a:tab algn="l" pos="457200"/>
                <a:tab algn="l" pos="85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ving objects, resizing, or rotating obje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00007d"/>
              </a:buClr>
              <a:buFont typeface="Wingdings" charset="2"/>
              <a:buChar char="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se actions simulate some kind of motion or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frame_animation_timeline"/>
          <p:cNvPicPr/>
          <p:nvPr/>
        </p:nvPicPr>
        <p:blipFill>
          <a:blip r:embed="rId1"/>
          <a:stretch/>
        </p:blipFill>
        <p:spPr>
          <a:xfrm>
            <a:off x="4267080" y="4952880"/>
            <a:ext cx="35816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keyframe at the point where the animation will sto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sufficient time for the image to be viewed after the final content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457200" y="68580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Guidelines For Creating Frame-by-Frame Animations</a:t>
            </a:r>
            <a:r>
              <a:rPr b="0" i="1" lang="en-US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(continue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723960" y="6114960"/>
            <a:ext cx="183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838080" y="4191120"/>
            <a:ext cx="731520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or example, if a new graphic is inserted at frame 35, place the final keyframe at frame 50 to allow time for the display of the final graph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opyright Laws</a:t>
            </a:r>
            <a:endParaRPr b="0" lang="en-US" sz="50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opyright Laws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 use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domain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s of Computer Anim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s of the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s per 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Review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delines for Designing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 keyframes at each change in th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74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keyframe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374"/>
              </a:spcAft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ng and deleting obje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374"/>
              </a:spcAft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ing one object with an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374"/>
              </a:spcAft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objects, resizing, or rotating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keyframe at the point where the animation will stop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sufficient time for the image to be viewed after the final content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Stage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 of the animation program window where the animation’s content is composed and manipul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rcRect l="1373" t="26968" r="21599" b="4000"/>
          <a:stretch/>
        </p:blipFill>
        <p:spPr>
          <a:xfrm>
            <a:off x="4649760" y="1220760"/>
            <a:ext cx="403848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Library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frequently used graphics, movie clips, and butt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tretch/>
        </p:blipFill>
        <p:spPr>
          <a:xfrm>
            <a:off x="4648320" y="914400"/>
            <a:ext cx="403848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 of the animation program window that organizes and controls an animation’s content over time using layers and fra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video-editing software, where source clips, transitions, and audio files are arranged to create the vid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Flash_CS4_Workspace"/>
          <p:cNvPicPr/>
          <p:nvPr/>
        </p:nvPicPr>
        <p:blipFill>
          <a:blip r:embed="rId1"/>
          <a:srcRect l="15279" t="3339" r="25696" b="67825"/>
          <a:stretch/>
        </p:blipFill>
        <p:spPr>
          <a:xfrm>
            <a:off x="1219320" y="4724280"/>
            <a:ext cx="5943600" cy="17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rts of the Timeline</a:t>
            </a:r>
            <a:endParaRPr b="0" lang="en-US" sz="50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Frames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spcAft>
                <a:spcPts val="12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hold the content that the movie displays or plays at that point in time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spcAft>
                <a:spcPts val="12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number of frames determines the length of the anima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spcAft>
                <a:spcPts val="12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higher the number of frames, the longer the anima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Regular Frames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 one image or frame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9"/>
          <p:cNvGrpSpPr/>
          <p:nvPr/>
        </p:nvGrpSpPr>
        <p:grpSpPr>
          <a:xfrm>
            <a:off x="2590920" y="3200400"/>
            <a:ext cx="5085720" cy="1968480"/>
            <a:chOff x="2590920" y="3200400"/>
            <a:chExt cx="5085720" cy="1968480"/>
          </a:xfrm>
        </p:grpSpPr>
        <p:pic>
          <p:nvPicPr>
            <p:cNvPr id="132" name="Picture 5" descr=""/>
            <p:cNvPicPr/>
            <p:nvPr/>
          </p:nvPicPr>
          <p:blipFill>
            <a:blip r:embed="rId1"/>
            <a:srcRect l="46033" t="27004" r="39153" b="65603"/>
            <a:stretch/>
          </p:blipFill>
          <p:spPr>
            <a:xfrm>
              <a:off x="2590920" y="3200400"/>
              <a:ext cx="4038480" cy="14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Line 7"/>
            <p:cNvSpPr/>
            <p:nvPr/>
          </p:nvSpPr>
          <p:spPr>
            <a:xfrm flipV="1">
              <a:off x="5410080" y="4457520"/>
              <a:ext cx="0" cy="64764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8"/>
            <p:cNvSpPr/>
            <p:nvPr/>
          </p:nvSpPr>
          <p:spPr>
            <a:xfrm>
              <a:off x="5467320" y="4800600"/>
              <a:ext cx="22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ular Fr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Keyframes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where the key (most important) actions occ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1"/>
          <p:cNvGrpSpPr/>
          <p:nvPr/>
        </p:nvGrpSpPr>
        <p:grpSpPr>
          <a:xfrm>
            <a:off x="2209680" y="2971800"/>
            <a:ext cx="5079960" cy="3172320"/>
            <a:chOff x="2209680" y="2971800"/>
            <a:chExt cx="5079960" cy="3172320"/>
          </a:xfrm>
        </p:grpSpPr>
        <p:grpSp>
          <p:nvGrpSpPr>
            <p:cNvPr id="138" name="Group 22"/>
            <p:cNvGrpSpPr/>
            <p:nvPr/>
          </p:nvGrpSpPr>
          <p:grpSpPr>
            <a:xfrm>
              <a:off x="2209680" y="2971800"/>
              <a:ext cx="5079960" cy="2649600"/>
              <a:chOff x="2209680" y="2971800"/>
              <a:chExt cx="5079960" cy="2649600"/>
            </a:xfrm>
          </p:grpSpPr>
          <p:pic>
            <p:nvPicPr>
              <p:cNvPr id="139" name="Picture 19" descr="tweening"/>
              <p:cNvPicPr/>
              <p:nvPr/>
            </p:nvPicPr>
            <p:blipFill>
              <a:blip r:embed="rId1"/>
              <a:srcRect l="42501" t="17743" r="0" b="25039"/>
              <a:stretch/>
            </p:blipFill>
            <p:spPr>
              <a:xfrm>
                <a:off x="2209680" y="4191120"/>
                <a:ext cx="4114800" cy="143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0" name="Group 21"/>
              <p:cNvGrpSpPr/>
              <p:nvPr/>
            </p:nvGrpSpPr>
            <p:grpSpPr>
              <a:xfrm>
                <a:off x="3429000" y="2971800"/>
                <a:ext cx="3860640" cy="1828440"/>
                <a:chOff x="3429000" y="2971800"/>
                <a:chExt cx="3860640" cy="1828440"/>
              </a:xfrm>
            </p:grpSpPr>
            <p:sp>
              <p:nvSpPr>
                <p:cNvPr id="141" name="Text Box 9"/>
                <p:cNvSpPr/>
                <p:nvPr/>
              </p:nvSpPr>
              <p:spPr>
                <a:xfrm>
                  <a:off x="4267080" y="2971800"/>
                  <a:ext cx="30225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Shows where tweening will occur.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10"/>
                <p:cNvSpPr/>
                <p:nvPr/>
              </p:nvSpPr>
              <p:spPr>
                <a:xfrm flipV="1">
                  <a:off x="3460680" y="3231720"/>
                  <a:ext cx="0" cy="15685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11"/>
                <p:cNvSpPr/>
                <p:nvPr/>
              </p:nvSpPr>
              <p:spPr>
                <a:xfrm>
                  <a:off x="3429000" y="3200400"/>
                  <a:ext cx="7380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Group 30"/>
            <p:cNvGrpSpPr/>
            <p:nvPr/>
          </p:nvGrpSpPr>
          <p:grpSpPr>
            <a:xfrm>
              <a:off x="2260440" y="5029200"/>
              <a:ext cx="2844720" cy="1114920"/>
              <a:chOff x="2260440" y="5029200"/>
              <a:chExt cx="2844720" cy="1114920"/>
            </a:xfrm>
          </p:grpSpPr>
          <p:sp>
            <p:nvSpPr>
              <p:cNvPr id="145" name="Line 24"/>
              <p:cNvSpPr/>
              <p:nvPr/>
            </p:nvSpPr>
            <p:spPr>
              <a:xfrm>
                <a:off x="2286000" y="5029200"/>
                <a:ext cx="0" cy="961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25"/>
              <p:cNvSpPr/>
              <p:nvPr/>
            </p:nvSpPr>
            <p:spPr>
              <a:xfrm>
                <a:off x="5079960" y="5029200"/>
                <a:ext cx="0" cy="961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26"/>
              <p:cNvSpPr/>
              <p:nvPr/>
            </p:nvSpPr>
            <p:spPr>
              <a:xfrm>
                <a:off x="2260440" y="5991120"/>
                <a:ext cx="55872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27"/>
              <p:cNvSpPr/>
              <p:nvPr/>
            </p:nvSpPr>
            <p:spPr>
              <a:xfrm>
                <a:off x="4572000" y="6006960"/>
                <a:ext cx="53316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29"/>
              <p:cNvSpPr/>
              <p:nvPr/>
            </p:nvSpPr>
            <p:spPr>
              <a:xfrm>
                <a:off x="2666880" y="5715000"/>
                <a:ext cx="21337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Keyframe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Text Box 32"/>
          <p:cNvSpPr/>
          <p:nvPr/>
        </p:nvSpPr>
        <p:spPr>
          <a:xfrm>
            <a:off x="1447920" y="6400800"/>
            <a:ext cx="716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used with permission from http://facweb.cs.depaul.edu/sgrais/creating_a_motion_tween.ht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8:52:06Z</dcterms:created>
  <dc:creator>tcunning</dc:creator>
  <dc:description/>
  <dc:language>en-US</dc:language>
  <cp:lastModifiedBy>Preferred User</cp:lastModifiedBy>
  <dcterms:modified xsi:type="dcterms:W3CDTF">2011-04-21T00:08:20Z</dcterms:modified>
  <cp:revision>113</cp:revision>
  <dc:subject/>
  <dc:title>Adapt still images into animations</dc:title>
</cp:coreProperties>
</file>